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7.wmf" ContentType="image/x-wmf"/>
  <Override PartName="/ppt/media/image32.wmf" ContentType="image/x-wmf"/>
  <Override PartName="/ppt/media/image12.png" ContentType="image/png"/>
  <Override PartName="/ppt/media/image2.png" ContentType="image/png"/>
  <Override PartName="/ppt/media/image10.wmf" ContentType="image/x-wmf"/>
  <Override PartName="/ppt/media/image30.wmf" ContentType="image/x-wmf"/>
  <Override PartName="/ppt/media/image33.jpeg" ContentType="image/jpeg"/>
  <Override PartName="/ppt/media/image13.wmf" ContentType="image/x-wmf"/>
  <Override PartName="/ppt/media/image26.png" ContentType="image/png"/>
  <Override PartName="/ppt/media/image17.jpeg" ContentType="image/jpeg"/>
  <Override PartName="/ppt/media/image31.wmf" ContentType="image/x-wmf"/>
  <Override PartName="/ppt/media/image34.jpeg" ContentType="image/jpeg"/>
  <Override PartName="/ppt/media/image35.png" ContentType="image/png"/>
  <Override PartName="/ppt/media/image11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media/image4.jpeg" ContentType="image/jpeg"/>
  <Override PartName="/ppt/media/image8.wmf" ContentType="image/x-wmf"/>
  <Override PartName="/ppt/media/image9.wmf" ContentType="image/x-wmf"/>
  <Override PartName="/ppt/media/image14.png" ContentType="image/png"/>
  <Override PartName="/ppt/media/image28.wmf" ContentType="image/x-wmf"/>
  <Override PartName="/ppt/media/image3.jpeg" ContentType="image/jpeg"/>
  <Override PartName="/ppt/media/image1.jpeg" ContentType="image/jpeg"/>
  <Override PartName="/ppt/media/image15.wmf" ContentType="image/x-wmf"/>
  <Override PartName="/ppt/media/image16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1444E-F1E0-4D73-92BB-9CA31E118B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9D2DD-4541-4D68-B915-A924E2337D6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u as..? (or As-tu...?) = Do you have...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u as un cadeau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s-tu un vélo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FBA9-7775-4577-8580-1FB07830234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a = He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a un vé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a des cadea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BA1E4-4883-4D2F-BF33-433ED19040A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a = She h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a un vé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a un iPod To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AC6E4-72AB-4D10-B2C8-4F343B3F56D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= I 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anglais (m) Je suis anglaise (f) – I am Englis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grand (m) Je suis grande (f) – I am t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suis content (m) Je suis contente (f) – I am happ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A5D8-3463-474A-9249-CB642B8D9C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= I like (usually followed by le/la/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les sapins de noël (I like christmas tre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les cadeaux (I like pres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le dinde (I like turke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me chanter (I like sing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FB4FE-B3C1-428A-A780-87003CD21AE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= I don’t like (usually followed by le/la/l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les carottes = I don’t like carro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le dinde = I don’t like turk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me pas chanter... = I don’t like sing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19072-6A9E-406F-9600-6796C154FE0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est = He is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est grand. (He is t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est féroce (He is ferocious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CFC2B-4257-4FFA-AA47-14F32782EF52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est = She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est grand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(She is tal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lle est méchant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She is wick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1F16D-16D3-4B25-A4ED-F646A803E29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 = I would lik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 un coc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voudrais un ‘Nintendo Wii’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4A104-174A-4F04-94AB-4B319DA0B7E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= It 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un chapea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le Père Noë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’est une ren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8B5D3-0BF3-48CD-8C04-D5AEC456875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= It i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un ch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Monsieur John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e n’est pas b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7075-3340-4539-878A-61989F83101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= there is / there 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un sapin de noë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trois ren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l y a beaucoup de cadeau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F8D5-386D-42A5-8FDA-BA86EEBFB7E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n’y a pas de = There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sn’t / There are not 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n’y a pas de sapin de noël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here isn’t a Christmas tree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l n’y a pas de cadeau. 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(There aren’t any present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68EE-3C73-44F3-A7EC-70B4FC60D80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= I ha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un cadeau et une car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un oran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’ai des chocol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416A-4B7C-4019-8DE0-C4234BAE2FC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 pas de = I don’t have 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g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 pas de cadeau. (I don’t have any presen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Je n’ai pas de iPod Touch. (I don’t have an iPod Touc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8EAC7-D189-4D2E-936A-766036CCD6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E0A0-B751-431A-B71F-E05D85AD3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C7AD-4C45-4D81-99A7-F4458D5ED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D107-2EA4-46A1-A8AE-F830FA0A4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61AC1-DED4-4002-964B-4BF64EB80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D600-2AA5-4082-9FA2-37B0980C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A218-D895-4DD5-A59C-E08668D3A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D98F-0363-4105-9F4F-D55D3D3DA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F883-6DE3-4493-B612-0D09AA39E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4011-0862-4900-AC15-85A3ADD1F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A59C-9625-4696-85D9-D0CE0A949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B99C-7528-4715-88F2-5CC46548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4FB0-4945-441B-8732-0C5001E4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A774B-41A1-4EBE-B0F3-0A6B8B284B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image" Target="../media/image25.wmf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.png"/><Relationship Id="rId3" Type="http://schemas.openxmlformats.org/officeDocument/2006/relationships/image" Target="../media/image26.png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1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wmf"/><Relationship Id="rId3" Type="http://schemas.openxmlformats.org/officeDocument/2006/relationships/image" Target="../media/image22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wmf"/><Relationship Id="rId4" Type="http://schemas.openxmlformats.org/officeDocument/2006/relationships/image" Target="../media/image14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wmf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98064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hristmas – themed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Core structures for KS2 French</a:t>
            </a:r>
            <a:br>
              <a:rPr sz="4800"/>
            </a:br>
            <a:r>
              <a:rPr b="0" lang="en-GB" sz="4800" spc="-1" strike="noStrike">
                <a:solidFill>
                  <a:srgbClr val="000000"/>
                </a:solidFill>
                <a:latin typeface="Calibri"/>
              </a:rPr>
              <a:t>Starter / 5-minute activities</a:t>
            </a:r>
            <a:br>
              <a:rPr sz="4900"/>
            </a:br>
            <a:br>
              <a:rPr sz="4900"/>
            </a:b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(based on the Hampshire End-of-Year 6 Transfer Agreement for Language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5013000"/>
            <a:ext cx="6400800" cy="62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898989"/>
                </a:solidFill>
                <a:latin typeface="Calibri"/>
              </a:rPr>
              <a:t>Jo Rhys-Jones December 201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66560" y="2707920"/>
            <a:ext cx="4321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Tu as....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Recorded Sound" descr=""/>
          <p:cNvPicPr/>
          <p:nvPr/>
        </p:nvPicPr>
        <p:blipFill>
          <a:blip r:embed="rId1"/>
          <a:stretch/>
        </p:blipFill>
        <p:spPr>
          <a:xfrm>
            <a:off x="1763640" y="20606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160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Il a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Recorded Sound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522000" cy="5205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6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339640" y="2060640"/>
            <a:ext cx="4608360" cy="229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Elle 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Recorded Sound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665280" cy="66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170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4000" y="2707920"/>
            <a:ext cx="4248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sui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Recorded Sound" descr=""/>
          <p:cNvPicPr/>
          <p:nvPr/>
        </p:nvPicPr>
        <p:blipFill>
          <a:blip r:embed="rId1"/>
          <a:stretch/>
        </p:blipFill>
        <p:spPr>
          <a:xfrm>
            <a:off x="2050920" y="1989000"/>
            <a:ext cx="738360" cy="7365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C:\Users\Jo\AppData\Local\Microsoft\Windows\Temporary Internet Files\Content.IE5\LVZF7U2C\MC900098133[1].wmf"/>
          <p:cNvPicPr/>
          <p:nvPr/>
        </p:nvPicPr>
        <p:blipFill>
          <a:blip r:embed="rId2"/>
          <a:stretch/>
        </p:blipFill>
        <p:spPr>
          <a:xfrm>
            <a:off x="250920" y="4014720"/>
            <a:ext cx="2808360" cy="265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8" descr="C:\Users\Jo\AppData\Local\Microsoft\Windows\Temporary Internet Files\Content.IE5\OALYRI11\MC900190861[1].wmf"/>
          <p:cNvPicPr/>
          <p:nvPr/>
        </p:nvPicPr>
        <p:blipFill>
          <a:blip r:embed="rId3"/>
          <a:stretch/>
        </p:blipFill>
        <p:spPr>
          <a:xfrm>
            <a:off x="6012000" y="4000680"/>
            <a:ext cx="2340000" cy="26683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Jo\AppData\Local\Microsoft\Windows\Temporary Internet Files\Content.IE5\ZZP0HXAT\MC900140941[1].wmf"/>
          <p:cNvPicPr/>
          <p:nvPr/>
        </p:nvPicPr>
        <p:blipFill>
          <a:blip r:embed="rId4"/>
          <a:stretch/>
        </p:blipFill>
        <p:spPr>
          <a:xfrm>
            <a:off x="147600" y="104760"/>
            <a:ext cx="1616040" cy="17510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3" descr="C:\Users\Jo\AppData\Local\Microsoft\Windows\Temporary Internet Files\Content.IE5\ZZP0HXAT\MC900432425[1].wmf"/>
          <p:cNvPicPr/>
          <p:nvPr/>
        </p:nvPicPr>
        <p:blipFill>
          <a:blip r:embed="rId5"/>
          <a:stretch/>
        </p:blipFill>
        <p:spPr>
          <a:xfrm>
            <a:off x="3492360" y="4869000"/>
            <a:ext cx="2025720" cy="15778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" descr="C:\Users\Jo\AppData\Local\Microsoft\Windows\Temporary Internet Files\Content.IE5\OJKJMONN\MC900432403[1].wmf"/>
          <p:cNvPicPr/>
          <p:nvPr/>
        </p:nvPicPr>
        <p:blipFill>
          <a:blip r:embed="rId6"/>
          <a:stretch/>
        </p:blipFill>
        <p:spPr>
          <a:xfrm>
            <a:off x="6948360" y="1484280"/>
            <a:ext cx="18352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110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’aim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Recorded Sound" descr=""/>
          <p:cNvPicPr/>
          <p:nvPr/>
        </p:nvPicPr>
        <p:blipFill>
          <a:blip r:embed="rId1"/>
          <a:stretch/>
        </p:blipFill>
        <p:spPr>
          <a:xfrm>
            <a:off x="2484360" y="2060640"/>
            <a:ext cx="592200" cy="593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C:\Users\Jo\AppData\Local\Microsoft\Windows\Temporary Internet Files\Content.IE5\LVZF7U2C\MC900439967[1].wmf"/>
          <p:cNvPicPr/>
          <p:nvPr/>
        </p:nvPicPr>
        <p:blipFill>
          <a:blip r:embed="rId2"/>
          <a:stretch/>
        </p:blipFill>
        <p:spPr>
          <a:xfrm>
            <a:off x="250920" y="2550960"/>
            <a:ext cx="2089080" cy="4087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C:\Users\Jo\AppData\Local\Microsoft\Windows\Temporary Internet Files\Content.IE5\OJKJMONN\MC900140953[1].wmf"/>
          <p:cNvPicPr/>
          <p:nvPr/>
        </p:nvPicPr>
        <p:blipFill>
          <a:blip r:embed="rId3"/>
          <a:stretch/>
        </p:blipFill>
        <p:spPr>
          <a:xfrm>
            <a:off x="5292720" y="4437000"/>
            <a:ext cx="2448000" cy="2006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C:\Users\Jo\AppData\Local\Microsoft\Windows\Temporary Internet Files\Content.IE5\ZZP0HXAT\MC900021592[1].wmf"/>
          <p:cNvPicPr/>
          <p:nvPr/>
        </p:nvPicPr>
        <p:blipFill>
          <a:blip r:embed="rId4"/>
          <a:stretch/>
        </p:blipFill>
        <p:spPr>
          <a:xfrm>
            <a:off x="2706840" y="4287960"/>
            <a:ext cx="2152440" cy="2236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9" descr="C:\Users\Jo\AppData\Local\Microsoft\Windows\Temporary Internet Files\Content.IE5\LVZF7U2C\MC900436336[1].png"/>
          <p:cNvPicPr/>
          <p:nvPr/>
        </p:nvPicPr>
        <p:blipFill>
          <a:blip r:embed="rId5"/>
          <a:stretch/>
        </p:blipFill>
        <p:spPr>
          <a:xfrm>
            <a:off x="6875640" y="234936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200" fill="hold"/>
                                        <p:tgtEl>
                                          <p:spTgt spid="1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2" descr="C:\Users\Jo\AppData\Local\Microsoft\Windows\Temporary Internet Files\Content.IE5\OALYRI11\MC900133445[1].wmf"/>
          <p:cNvPicPr/>
          <p:nvPr/>
        </p:nvPicPr>
        <p:blipFill>
          <a:blip r:embed="rId1"/>
          <a:stretch/>
        </p:blipFill>
        <p:spPr>
          <a:xfrm>
            <a:off x="34920" y="352440"/>
            <a:ext cx="2594160" cy="21398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31640" y="2707920"/>
            <a:ext cx="6553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n’aime p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Recorded Sound" descr=""/>
          <p:cNvPicPr/>
          <p:nvPr/>
        </p:nvPicPr>
        <p:blipFill>
          <a:blip r:embed="rId2"/>
          <a:stretch/>
        </p:blipFill>
        <p:spPr>
          <a:xfrm>
            <a:off x="1116000" y="2349360"/>
            <a:ext cx="665280" cy="6652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C:\Users\Jo\AppData\Local\Microsoft\Windows\Temporary Internet Files\Content.IE5\LVZF7U2C\MC900436336[1].png"/>
          <p:cNvPicPr/>
          <p:nvPr/>
        </p:nvPicPr>
        <p:blipFill>
          <a:blip r:embed="rId3"/>
          <a:stretch/>
        </p:blipFill>
        <p:spPr>
          <a:xfrm>
            <a:off x="468360" y="514368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7" descr="C:\Users\Jo\AppData\Local\Microsoft\Windows\Temporary Internet Files\Content.IE5\ZZP0HXAT\MC900191577[1].wmf"/>
          <p:cNvPicPr/>
          <p:nvPr/>
        </p:nvPicPr>
        <p:blipFill>
          <a:blip r:embed="rId4"/>
          <a:stretch/>
        </p:blipFill>
        <p:spPr>
          <a:xfrm>
            <a:off x="2627280" y="5002200"/>
            <a:ext cx="1889280" cy="15224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8" descr="C:\Users\Jo\AppData\Local\Microsoft\Windows\Temporary Internet Files\Content.IE5\LVZF7U2C\MC900199137[1].wmf"/>
          <p:cNvPicPr/>
          <p:nvPr/>
        </p:nvPicPr>
        <p:blipFill>
          <a:blip r:embed="rId5"/>
          <a:stretch/>
        </p:blipFill>
        <p:spPr>
          <a:xfrm>
            <a:off x="4788000" y="5013360"/>
            <a:ext cx="1693800" cy="158760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C:\Users\Jo\AppData\Local\Microsoft\Windows\Temporary Internet Files\Content.IE5\OALYRI11\MC900155070[1].wmf"/>
          <p:cNvPicPr/>
          <p:nvPr/>
        </p:nvPicPr>
        <p:blipFill>
          <a:blip r:embed="rId6"/>
          <a:stretch/>
        </p:blipFill>
        <p:spPr>
          <a:xfrm>
            <a:off x="6804000" y="4835520"/>
            <a:ext cx="1509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271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556000" y="2707920"/>
            <a:ext cx="3528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Il e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Recorded Sound" descr=""/>
          <p:cNvPicPr/>
          <p:nvPr/>
        </p:nvPicPr>
        <p:blipFill>
          <a:blip r:embed="rId1"/>
          <a:stretch/>
        </p:blipFill>
        <p:spPr>
          <a:xfrm>
            <a:off x="2484360" y="220500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C:\Users\Jo\AppData\Local\Microsoft\Windows\Temporary Internet Files\Content.IE5\LVZF7U2C\MC900098133[1].wmf"/>
          <p:cNvPicPr/>
          <p:nvPr/>
        </p:nvPicPr>
        <p:blipFill>
          <a:blip r:embed="rId2"/>
          <a:stretch/>
        </p:blipFill>
        <p:spPr>
          <a:xfrm>
            <a:off x="250920" y="4014720"/>
            <a:ext cx="2808360" cy="265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C:\Users\Jo\AppData\Local\Microsoft\Windows\Temporary Internet Files\Content.IE5\OALYRI11\MC900190861[1].wmf"/>
          <p:cNvPicPr/>
          <p:nvPr/>
        </p:nvPicPr>
        <p:blipFill>
          <a:blip r:embed="rId3"/>
          <a:stretch/>
        </p:blipFill>
        <p:spPr>
          <a:xfrm>
            <a:off x="6012000" y="4000680"/>
            <a:ext cx="2340000" cy="26683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C:\Users\Jo\AppData\Local\Microsoft\Windows\Temporary Internet Files\Content.IE5\ZZP0HXAT\MC900140941[1].wmf"/>
          <p:cNvPicPr/>
          <p:nvPr/>
        </p:nvPicPr>
        <p:blipFill>
          <a:blip r:embed="rId4"/>
          <a:stretch/>
        </p:blipFill>
        <p:spPr>
          <a:xfrm>
            <a:off x="147600" y="104760"/>
            <a:ext cx="1616040" cy="17510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3" descr="C:\Users\Jo\AppData\Local\Microsoft\Windows\Temporary Internet Files\Content.IE5\ZZP0HXAT\MC900432425[1].wmf"/>
          <p:cNvPicPr/>
          <p:nvPr/>
        </p:nvPicPr>
        <p:blipFill>
          <a:blip r:embed="rId5"/>
          <a:stretch/>
        </p:blipFill>
        <p:spPr>
          <a:xfrm>
            <a:off x="3492360" y="4869000"/>
            <a:ext cx="2025720" cy="15778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C:\Users\Jo\AppData\Local\Microsoft\Windows\Temporary Internet Files\Content.IE5\OJKJMONN\MC900432403[1].wmf"/>
          <p:cNvPicPr/>
          <p:nvPr/>
        </p:nvPicPr>
        <p:blipFill>
          <a:blip r:embed="rId6"/>
          <a:stretch/>
        </p:blipFill>
        <p:spPr>
          <a:xfrm>
            <a:off x="6948360" y="1484280"/>
            <a:ext cx="1835280" cy="19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160" fill="hold"/>
                                        <p:tgtEl>
                                          <p:spTgt spid="1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Elle e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Recorded Sound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592200" cy="5936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8" descr="C:\Users\Jo\AppData\Local\Microsoft\Windows\Temporary Internet Files\Content.IE5\OALYRI11\MC900190861[1].wmf"/>
          <p:cNvPicPr/>
          <p:nvPr/>
        </p:nvPicPr>
        <p:blipFill>
          <a:blip r:embed="rId2"/>
          <a:stretch/>
        </p:blipFill>
        <p:spPr>
          <a:xfrm>
            <a:off x="324000" y="3789360"/>
            <a:ext cx="2340000" cy="2668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4" descr="C:\Users\Jo\AppData\Local\Microsoft\Windows\Temporary Internet Files\Content.IE5\OJKJMONN\MC900432403[1].wmf"/>
          <p:cNvPicPr/>
          <p:nvPr/>
        </p:nvPicPr>
        <p:blipFill>
          <a:blip r:embed="rId3"/>
          <a:stretch/>
        </p:blipFill>
        <p:spPr>
          <a:xfrm>
            <a:off x="6948360" y="1484280"/>
            <a:ext cx="1835280" cy="1955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C:\Users\Jo\AppData\Local\Microsoft\Windows\Temporary Internet Files\Content.IE5\ZZP0HXAT\MC900116122[1].wmf"/>
          <p:cNvPicPr/>
          <p:nvPr/>
        </p:nvPicPr>
        <p:blipFill>
          <a:blip r:embed="rId4"/>
          <a:stretch/>
        </p:blipFill>
        <p:spPr>
          <a:xfrm>
            <a:off x="6300720" y="4365720"/>
            <a:ext cx="1513080" cy="18414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C:\Users\Jo\AppData\Local\Microsoft\Windows\Temporary Internet Files\Content.IE5\OJKJMONN\MC900349119[1].wmf"/>
          <p:cNvPicPr/>
          <p:nvPr/>
        </p:nvPicPr>
        <p:blipFill>
          <a:blip r:embed="rId5"/>
          <a:stretch/>
        </p:blipFill>
        <p:spPr>
          <a:xfrm>
            <a:off x="3708360" y="4437000"/>
            <a:ext cx="1951200" cy="17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restart="whenNotActive" nodeType="interactiveSeq" fill="hold">
                <p:stCondLst>
                  <p:cond evt="onClick">
                    <p:tgtEl>
                      <p:spTgt spid="167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167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610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692360" y="2707920"/>
            <a:ext cx="619272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voudrai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Recorded Sound" descr=""/>
          <p:cNvPicPr/>
          <p:nvPr/>
        </p:nvPicPr>
        <p:blipFill>
          <a:blip r:embed="rId1"/>
          <a:stretch/>
        </p:blipFill>
        <p:spPr>
          <a:xfrm>
            <a:off x="1476360" y="2349360"/>
            <a:ext cx="719280" cy="720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ipod-touch-4th-generation-media-player.jpg"/>
          <p:cNvPicPr/>
          <p:nvPr/>
        </p:nvPicPr>
        <p:blipFill>
          <a:blip r:embed="rId2"/>
          <a:stretch/>
        </p:blipFill>
        <p:spPr>
          <a:xfrm>
            <a:off x="395280" y="4797360"/>
            <a:ext cx="1765440" cy="1727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23800158_4.jpg"/>
          <p:cNvPicPr/>
          <p:nvPr/>
        </p:nvPicPr>
        <p:blipFill>
          <a:blip r:embed="rId3"/>
          <a:stretch/>
        </p:blipFill>
        <p:spPr>
          <a:xfrm>
            <a:off x="4572000" y="4863960"/>
            <a:ext cx="1660680" cy="16606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7" descr="one-boys-katy-perry-cd-cover-art.jpg"/>
          <p:cNvPicPr/>
          <p:nvPr/>
        </p:nvPicPr>
        <p:blipFill>
          <a:blip r:embed="rId4"/>
          <a:stretch/>
        </p:blipFill>
        <p:spPr>
          <a:xfrm>
            <a:off x="2365200" y="4606920"/>
            <a:ext cx="1919520" cy="19177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8" descr="260px-Nintendo-3DS-AquaOpen.png"/>
          <p:cNvPicPr/>
          <p:nvPr/>
        </p:nvPicPr>
        <p:blipFill>
          <a:blip r:embed="rId5"/>
          <a:stretch/>
        </p:blipFill>
        <p:spPr>
          <a:xfrm>
            <a:off x="6300720" y="4365720"/>
            <a:ext cx="2476440" cy="22381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6" descr="C:\Users\Jo\AppData\Local\Microsoft\Windows\Temporary Internet Files\Content.IE5\OALYRI11\MC900157411[1].wmf"/>
          <p:cNvPicPr/>
          <p:nvPr/>
        </p:nvPicPr>
        <p:blipFill>
          <a:blip r:embed="rId6"/>
          <a:stretch/>
        </p:blipFill>
        <p:spPr>
          <a:xfrm>
            <a:off x="324000" y="333360"/>
            <a:ext cx="15555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330" fill="hold"/>
                                        <p:tgtEl>
                                          <p:spTgt spid="1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250920" y="189000"/>
          <a:ext cx="8748720" cy="6527880"/>
        </p:xfrm>
        <a:graphic>
          <a:graphicData uri="http://schemas.openxmlformats.org/drawingml/2006/table">
            <a:tbl>
              <a:tblPr/>
              <a:tblGrid>
                <a:gridCol w="1793880"/>
                <a:gridCol w="6954840"/>
              </a:tblGrid>
              <a:tr h="426960">
                <a:tc gridSpan="2">
                  <a:txBody>
                    <a:bodyPr lIns="55080" rIns="5508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r.6 should </a:t>
                      </a:r>
                      <a:r>
                        <a:rPr b="1" lang="en-GB" sz="1400" spc="-1" strike="noStrike">
                          <a:solidFill>
                            <a:srgbClr val="0000ff"/>
                          </a:solidFill>
                          <a:latin typeface="Arial"/>
                          <a:ea typeface="Times New Roman"/>
                        </a:rPr>
                        <a:t>know these core elements well</a:t>
                      </a: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fter 4 yrs of entitlement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ditional language to be considered a bonus and non-essential. Topic areas are not to be specifie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15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un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wareness that nouns can be m or f; how to recognise s. or pl; Dictionary skill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phab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y phoneme/graphemes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, ou, é/er/et/ez, gn, on/an, in/ain, oi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; simple awareness of silent letter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djectiv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ur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size and some simple adjectives. Basic awareness of position / agreemen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65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re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’est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t 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e n’est pas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It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n’t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 y a….     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e is / there ar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 n’y a pas de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ere isn’t / aren’t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’ai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     I hav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s…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You hav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/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l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…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He/she has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n’ai pas de..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I haven’t got / don’t have 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suis...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I am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 es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 You ar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l/elle est...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/she is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’aime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…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       I like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n’aime pas…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I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n’t like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.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e voudrais...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             I would like…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72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 least to 31. Ideally up to 69.  Up to 100 is a bonu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s/Mon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lle est la date aujourd’hui? Quelle est la date de ton anniversaire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640"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lling the ti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On the hour) Il est une heure. -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1 o’clock.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Il est deux heures. – </a:t>
                      </a:r>
                      <a:r>
                        <a:rPr b="0" i="1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t is 2 o’clock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7160"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cognise &amp; a</a:t>
                      </a: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swer basic question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5080" rIns="550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’est-ce que c’est?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it?</a:t>
                      </a: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ù est..?                 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ere is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l âge as-tu?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ow old are you?    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s-tu?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have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imes-tu?                      </a:t>
                      </a: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 you like …..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mment tu t’appelles?     </a:t>
                      </a:r>
                      <a:r>
                        <a:rPr b="0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hat is your name?</a:t>
                      </a: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 comment t’appelles-tu?                        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5080" marR="55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Action Button: Home 4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How to use these slide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395280" y="1600200"/>
            <a:ext cx="8291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 a starter or 5-minute filler activ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Display </a:t>
            </a:r>
            <a:r>
              <a:rPr b="0" lang="en-GB" sz="3200" spc="-1" strike="noStrike">
                <a:solidFill>
                  <a:srgbClr val="ff0000"/>
                </a:solidFill>
                <a:latin typeface="Calibri"/>
              </a:rPr>
              <a:t>one slide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 boar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sk children to use mini-whiteboards to write down as many sentences as they can using the structur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et a time limit of 2 minutes and ask groups to read back their best sentenc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f stuck there are reminders and suggestions underneath each slide in the no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Action Button: Home 4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31640" y="2707920"/>
            <a:ext cx="3527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C’est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Recorded Sound" descr=""/>
          <p:cNvPicPr/>
          <p:nvPr/>
        </p:nvPicPr>
        <p:blipFill>
          <a:blip r:embed="rId1"/>
          <a:stretch/>
        </p:blipFill>
        <p:spPr>
          <a:xfrm>
            <a:off x="2556000" y="2349360"/>
            <a:ext cx="431640" cy="432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xmas hat.jpg"/>
          <p:cNvPicPr/>
          <p:nvPr/>
        </p:nvPicPr>
        <p:blipFill>
          <a:blip r:embed="rId2"/>
          <a:stretch/>
        </p:blipFill>
        <p:spPr>
          <a:xfrm>
            <a:off x="324000" y="333360"/>
            <a:ext cx="904680" cy="981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xmas scarf.jpg"/>
          <p:cNvPicPr/>
          <p:nvPr/>
        </p:nvPicPr>
        <p:blipFill>
          <a:blip r:embed="rId3"/>
          <a:stretch/>
        </p:blipFill>
        <p:spPr>
          <a:xfrm>
            <a:off x="324000" y="1700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xmas socks.jpg"/>
          <p:cNvPicPr/>
          <p:nvPr/>
        </p:nvPicPr>
        <p:blipFill>
          <a:blip r:embed="rId4"/>
          <a:stretch/>
        </p:blipFill>
        <p:spPr>
          <a:xfrm>
            <a:off x="324000" y="2924280"/>
            <a:ext cx="955440" cy="1009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8" descr="father xmas face.jpg"/>
          <p:cNvPicPr/>
          <p:nvPr/>
        </p:nvPicPr>
        <p:blipFill>
          <a:blip r:embed="rId5"/>
          <a:stretch/>
        </p:blipFill>
        <p:spPr>
          <a:xfrm>
            <a:off x="324000" y="4292640"/>
            <a:ext cx="952200" cy="10573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C:\Users\Jo\AppData\Local\Microsoft\Windows\Temporary Internet Files\Content.IE5\ZZP0HXAT\MC900133275[2].wmf"/>
          <p:cNvPicPr/>
          <p:nvPr/>
        </p:nvPicPr>
        <p:blipFill>
          <a:blip r:embed="rId6"/>
          <a:stretch/>
        </p:blipFill>
        <p:spPr>
          <a:xfrm>
            <a:off x="250920" y="5589720"/>
            <a:ext cx="1008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9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Ce n’est pa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Recorded Sound" descr=""/>
          <p:cNvPicPr/>
          <p:nvPr/>
        </p:nvPicPr>
        <p:blipFill>
          <a:blip r:embed="rId1"/>
          <a:stretch/>
        </p:blipFill>
        <p:spPr>
          <a:xfrm>
            <a:off x="1476360" y="1916280"/>
            <a:ext cx="592200" cy="593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xmas hat.jpg"/>
          <p:cNvPicPr/>
          <p:nvPr/>
        </p:nvPicPr>
        <p:blipFill>
          <a:blip r:embed="rId2"/>
          <a:stretch/>
        </p:blipFill>
        <p:spPr>
          <a:xfrm>
            <a:off x="324000" y="333360"/>
            <a:ext cx="904680" cy="981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xmas scarf.jpg"/>
          <p:cNvPicPr/>
          <p:nvPr/>
        </p:nvPicPr>
        <p:blipFill>
          <a:blip r:embed="rId3"/>
          <a:stretch/>
        </p:blipFill>
        <p:spPr>
          <a:xfrm>
            <a:off x="324000" y="17002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xmas socks.jpg"/>
          <p:cNvPicPr/>
          <p:nvPr/>
        </p:nvPicPr>
        <p:blipFill>
          <a:blip r:embed="rId4"/>
          <a:stretch/>
        </p:blipFill>
        <p:spPr>
          <a:xfrm>
            <a:off x="324000" y="2924280"/>
            <a:ext cx="955440" cy="1009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father xmas face.jpg"/>
          <p:cNvPicPr/>
          <p:nvPr/>
        </p:nvPicPr>
        <p:blipFill>
          <a:blip r:embed="rId5"/>
          <a:stretch/>
        </p:blipFill>
        <p:spPr>
          <a:xfrm>
            <a:off x="324000" y="4292640"/>
            <a:ext cx="952200" cy="10573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Jo\AppData\Local\Microsoft\Windows\Temporary Internet Files\Content.IE5\ZZP0HXAT\MC900133275[2].wmf"/>
          <p:cNvPicPr/>
          <p:nvPr/>
        </p:nvPicPr>
        <p:blipFill>
          <a:blip r:embed="rId6"/>
          <a:stretch/>
        </p:blipFill>
        <p:spPr>
          <a:xfrm>
            <a:off x="250920" y="5589720"/>
            <a:ext cx="1008000" cy="11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67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67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28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7375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55640" y="2708280"/>
            <a:ext cx="4103640" cy="21607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0" spc="-1" strike="noStrike">
                <a:solidFill>
                  <a:srgbClr val="000000"/>
                </a:solidFill>
                <a:latin typeface="Comic Sans MS"/>
              </a:rPr>
              <a:t>Il y a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orded Sound" descr=""/>
          <p:cNvPicPr/>
          <p:nvPr/>
        </p:nvPicPr>
        <p:blipFill>
          <a:blip r:embed="rId1"/>
          <a:stretch/>
        </p:blipFill>
        <p:spPr>
          <a:xfrm>
            <a:off x="1692360" y="1773360"/>
            <a:ext cx="592200" cy="5918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C:\Users\Jo\AppData\Local\Microsoft\Windows\Temporary Internet Files\Content.IE5\OJKJMONN\MC900140935[1].wmf"/>
          <p:cNvPicPr/>
          <p:nvPr/>
        </p:nvPicPr>
        <p:blipFill>
          <a:blip r:embed="rId2"/>
          <a:stretch/>
        </p:blipFill>
        <p:spPr>
          <a:xfrm>
            <a:off x="108000" y="5013360"/>
            <a:ext cx="1149480" cy="1600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C:\Users\Jo\AppData\Local\Microsoft\Windows\Temporary Internet Files\Content.IE5\LVZF7U2C\MC900140937[1].wmf"/>
          <p:cNvPicPr/>
          <p:nvPr/>
        </p:nvPicPr>
        <p:blipFill>
          <a:blip r:embed="rId3"/>
          <a:stretch/>
        </p:blipFill>
        <p:spPr>
          <a:xfrm>
            <a:off x="1187280" y="5229360"/>
            <a:ext cx="827280" cy="13986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C:\Users\Jo\AppData\Local\Microsoft\Windows\Temporary Internet Files\Content.IE5\OALYRI11\MC900140941[1].wmf"/>
          <p:cNvPicPr/>
          <p:nvPr/>
        </p:nvPicPr>
        <p:blipFill>
          <a:blip r:embed="rId4"/>
          <a:stretch/>
        </p:blipFill>
        <p:spPr>
          <a:xfrm>
            <a:off x="1908000" y="5373720"/>
            <a:ext cx="1073160" cy="1163520"/>
          </a:xfrm>
          <a:prstGeom prst="rect">
            <a:avLst/>
          </a:prstGeom>
          <a:ln w="0">
            <a:noFill/>
          </a:ln>
        </p:spPr>
      </p:pic>
      <p:sp>
        <p:nvSpPr>
          <p:cNvPr id="80" name="Tree"/>
          <p:cNvSpPr/>
          <p:nvPr/>
        </p:nvSpPr>
        <p:spPr>
          <a:xfrm>
            <a:off x="3780000" y="4724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C:\Users\Jo\AppData\Local\Microsoft\Windows\Temporary Internet Files\Content.IE5\OALYRI11\MC900140891[1].wmf"/>
          <p:cNvPicPr/>
          <p:nvPr/>
        </p:nvPicPr>
        <p:blipFill>
          <a:blip r:embed="rId5"/>
          <a:stretch/>
        </p:blipFill>
        <p:spPr>
          <a:xfrm>
            <a:off x="6372360" y="4724280"/>
            <a:ext cx="1414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560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622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15640" y="2707920"/>
            <a:ext cx="705636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Il n’y a pas d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Recorded Sound" descr=""/>
          <p:cNvPicPr/>
          <p:nvPr/>
        </p:nvPicPr>
        <p:blipFill>
          <a:blip r:embed="rId1"/>
          <a:stretch/>
        </p:blipFill>
        <p:spPr>
          <a:xfrm>
            <a:off x="1116000" y="1989000"/>
            <a:ext cx="447840" cy="4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C:\Users\Jo\AppData\Local\Microsoft\Windows\Temporary Internet Files\Content.IE5\OJKJMONN\MC900140935[1].wmf"/>
          <p:cNvPicPr/>
          <p:nvPr/>
        </p:nvPicPr>
        <p:blipFill>
          <a:blip r:embed="rId2"/>
          <a:stretch/>
        </p:blipFill>
        <p:spPr>
          <a:xfrm>
            <a:off x="108000" y="5013360"/>
            <a:ext cx="1149480" cy="1600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C:\Users\Jo\AppData\Local\Microsoft\Windows\Temporary Internet Files\Content.IE5\LVZF7U2C\MC900140937[1].wmf"/>
          <p:cNvPicPr/>
          <p:nvPr/>
        </p:nvPicPr>
        <p:blipFill>
          <a:blip r:embed="rId3"/>
          <a:stretch/>
        </p:blipFill>
        <p:spPr>
          <a:xfrm>
            <a:off x="1187280" y="5229360"/>
            <a:ext cx="827280" cy="13986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8" descr="C:\Users\Jo\AppData\Local\Microsoft\Windows\Temporary Internet Files\Content.IE5\OALYRI11\MC900140941[1].wmf"/>
          <p:cNvPicPr/>
          <p:nvPr/>
        </p:nvPicPr>
        <p:blipFill>
          <a:blip r:embed="rId4"/>
          <a:stretch/>
        </p:blipFill>
        <p:spPr>
          <a:xfrm>
            <a:off x="1908000" y="5373720"/>
            <a:ext cx="1073160" cy="1163520"/>
          </a:xfrm>
          <a:prstGeom prst="rect">
            <a:avLst/>
          </a:prstGeom>
          <a:ln w="0">
            <a:noFill/>
          </a:ln>
        </p:spPr>
      </p:pic>
      <p:sp>
        <p:nvSpPr>
          <p:cNvPr id="89" name="Tree"/>
          <p:cNvSpPr/>
          <p:nvPr/>
        </p:nvSpPr>
        <p:spPr>
          <a:xfrm>
            <a:off x="3780000" y="4724280"/>
            <a:ext cx="1809720" cy="1809720"/>
          </a:xfrm>
          <a:custGeom>
            <a:avLst/>
            <a:gdLst>
              <a:gd name="textAreaLeft" fmla="*/ 63720 w 1809720"/>
              <a:gd name="textAreaRight" fmla="*/ 1765440 w 1809720"/>
              <a:gd name="textAreaTop" fmla="*/ 1881360 h 1809720"/>
              <a:gd name="textAreaBottom" fmla="*/ 2369880 h 1809720"/>
            </a:gdLst>
            <a:ahLst/>
            <a:rect l="textAreaLeft" t="textAreaTop" r="textAreaRight" b="textAreaBottom"/>
            <a:pathLst>
              <a:path w="21600" h="21600">
                <a:moveTo>
                  <a:pt x="0" y="18900"/>
                </a:moveTo>
                <a:lnTo>
                  <a:pt x="9257" y="18900"/>
                </a:lnTo>
                <a:lnTo>
                  <a:pt x="9257" y="21600"/>
                </a:lnTo>
                <a:lnTo>
                  <a:pt x="12343" y="21600"/>
                </a:lnTo>
                <a:lnTo>
                  <a:pt x="12343" y="18900"/>
                </a:lnTo>
                <a:lnTo>
                  <a:pt x="21600" y="18900"/>
                </a:lnTo>
                <a:lnTo>
                  <a:pt x="12343" y="12600"/>
                </a:lnTo>
                <a:lnTo>
                  <a:pt x="18514" y="12600"/>
                </a:lnTo>
                <a:lnTo>
                  <a:pt x="12343" y="6300"/>
                </a:lnTo>
                <a:lnTo>
                  <a:pt x="15429" y="6300"/>
                </a:lnTo>
                <a:lnTo>
                  <a:pt x="10800" y="0"/>
                </a:lnTo>
                <a:lnTo>
                  <a:pt x="6171" y="6300"/>
                </a:lnTo>
                <a:lnTo>
                  <a:pt x="9257" y="6300"/>
                </a:lnTo>
                <a:lnTo>
                  <a:pt x="3086" y="12600"/>
                </a:lnTo>
                <a:lnTo>
                  <a:pt x="9257" y="12600"/>
                </a:lnTo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C:\Users\Jo\AppData\Local\Microsoft\Windows\Temporary Internet Files\Content.IE5\OALYRI11\MC900140891[1].wmf"/>
          <p:cNvPicPr/>
          <p:nvPr/>
        </p:nvPicPr>
        <p:blipFill>
          <a:blip r:embed="rId5"/>
          <a:stretch/>
        </p:blipFill>
        <p:spPr>
          <a:xfrm>
            <a:off x="6372360" y="4724280"/>
            <a:ext cx="14144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75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8920" y="2707920"/>
            <a:ext cx="3313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’ai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orded Sound" descr=""/>
          <p:cNvPicPr/>
          <p:nvPr/>
        </p:nvPicPr>
        <p:blipFill>
          <a:blip r:embed="rId1"/>
          <a:stretch/>
        </p:blipFill>
        <p:spPr>
          <a:xfrm>
            <a:off x="2916360" y="2276640"/>
            <a:ext cx="520560" cy="520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C:\Users\Jo\AppData\Local\Microsoft\Windows\Temporary Internet Files\Content.IE5\ZZP0HXAT\MC900436403[1].png"/>
          <p:cNvPicPr/>
          <p:nvPr/>
        </p:nvPicPr>
        <p:blipFill>
          <a:blip r:embed="rId2"/>
          <a:stretch/>
        </p:blipFill>
        <p:spPr>
          <a:xfrm>
            <a:off x="468360" y="515772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7" descr="C:\Users\Jo\AppData\Local\Microsoft\Windows\Temporary Internet Files\Content.IE5\ZZP0HXAT\MC900361924[1].wmf"/>
          <p:cNvPicPr/>
          <p:nvPr/>
        </p:nvPicPr>
        <p:blipFill>
          <a:blip r:embed="rId3"/>
          <a:stretch/>
        </p:blipFill>
        <p:spPr>
          <a:xfrm>
            <a:off x="2340000" y="4581360"/>
            <a:ext cx="1415880" cy="1816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8" descr="C:\Users\Jo\AppData\Local\Microsoft\Windows\Temporary Internet Files\Content.IE5\OJKJMONN\MC910217010[1].png"/>
          <p:cNvPicPr/>
          <p:nvPr/>
        </p:nvPicPr>
        <p:blipFill>
          <a:blip r:embed="rId4"/>
          <a:stretch/>
        </p:blipFill>
        <p:spPr>
          <a:xfrm>
            <a:off x="4284720" y="5157720"/>
            <a:ext cx="1339920" cy="1339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C:\Users\Jo\AppData\Local\Microsoft\Windows\Temporary Internet Files\Content.IE5\LVZF7U2C\MC900112430[1].wmf"/>
          <p:cNvPicPr/>
          <p:nvPr/>
        </p:nvPicPr>
        <p:blipFill>
          <a:blip r:embed="rId5"/>
          <a:stretch/>
        </p:blipFill>
        <p:spPr>
          <a:xfrm>
            <a:off x="6156360" y="5157720"/>
            <a:ext cx="256068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39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26920" y="2276640"/>
            <a:ext cx="7490160" cy="157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Comic Sans MS"/>
              </a:rPr>
              <a:t>Je n’ai pas de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2648880" y="57240"/>
            <a:ext cx="6404760" cy="91692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hat does this phrase mea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How many sentences can you make in French using this structure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You have 2 minu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ction Button: Home 3">
            <a:hlinkClick r:id="" action="ppaction://hlinkshowjump?jump=firstslide"/>
          </p:cNvPr>
          <p:cNvSpPr/>
          <p:nvPr/>
        </p:nvSpPr>
        <p:spPr>
          <a:xfrm>
            <a:off x="8532720" y="6237360"/>
            <a:ext cx="540000" cy="549360"/>
          </a:xfrm>
          <a:custGeom>
            <a:avLst/>
            <a:gdLst>
              <a:gd name="textAreaLeft" fmla="*/ 34920 w 540000"/>
              <a:gd name="textAreaRight" fmla="*/ 505080 w 540000"/>
              <a:gd name="textAreaTop" fmla="*/ 34920 h 549360"/>
              <a:gd name="textAreaBottom" fmla="*/ 514440 h 549360"/>
            </a:gdLst>
            <a:ahLst/>
            <a:rect l="textAreaLeft" t="textAreaTop" r="textAreaRight" b="textAreaBottom"/>
            <a:pathLst>
              <a:path w="21600" h="21974">
                <a:moveTo>
                  <a:pt x="0" y="0"/>
                </a:moveTo>
                <a:lnTo>
                  <a:pt x="21600" y="0"/>
                </a:lnTo>
                <a:lnTo>
                  <a:pt x="21600" y="21974"/>
                </a:lnTo>
                <a:lnTo>
                  <a:pt x="0" y="21974"/>
                </a:lnTo>
                <a:close/>
              </a:path>
              <a:path fill="lightenLess" w="21600" h="2197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974">
                <a:moveTo>
                  <a:pt x="21600" y="0"/>
                </a:moveTo>
                <a:lnTo>
                  <a:pt x="21600" y="21974"/>
                </a:lnTo>
                <a:lnTo>
                  <a:pt x="20200" y="20574"/>
                </a:lnTo>
                <a:lnTo>
                  <a:pt x="20200" y="1400"/>
                </a:lnTo>
                <a:close/>
              </a:path>
              <a:path fill="darkenLess" w="21600" h="21974">
                <a:moveTo>
                  <a:pt x="21600" y="21974"/>
                </a:moveTo>
                <a:lnTo>
                  <a:pt x="0" y="21974"/>
                </a:lnTo>
                <a:lnTo>
                  <a:pt x="1400" y="20574"/>
                </a:lnTo>
                <a:lnTo>
                  <a:pt x="20200" y="20574"/>
                </a:lnTo>
                <a:close/>
              </a:path>
              <a:path fill="lighten" w="21600" h="21974">
                <a:moveTo>
                  <a:pt x="0" y="2197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574"/>
                </a:lnTo>
                <a:close/>
              </a:path>
              <a:path fill="darken" w="21600" h="21974">
                <a:moveTo>
                  <a:pt x="10800" y="4024"/>
                </a:moveTo>
                <a:lnTo>
                  <a:pt x="13376" y="6635"/>
                </a:ln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lnTo>
                  <a:pt x="17763" y="10987"/>
                </a:lnTo>
                <a:lnTo>
                  <a:pt x="16109" y="10987"/>
                </a:lnTo>
                <a:lnTo>
                  <a:pt x="16109" y="18176"/>
                </a:lnTo>
                <a:lnTo>
                  <a:pt x="5491" y="18176"/>
                </a:lnTo>
                <a:lnTo>
                  <a:pt x="5491" y="10987"/>
                </a:lnTo>
                <a:lnTo>
                  <a:pt x="3837" y="10987"/>
                </a:lnTo>
                <a:close/>
              </a:path>
              <a:path fill="darkenLess" w="21600" h="21974">
                <a:moveTo>
                  <a:pt x="13376" y="6635"/>
                </a:moveTo>
                <a:lnTo>
                  <a:pt x="13376" y="4894"/>
                </a:lnTo>
                <a:lnTo>
                  <a:pt x="15152" y="4894"/>
                </a:lnTo>
                <a:lnTo>
                  <a:pt x="15152" y="8411"/>
                </a:lnTo>
                <a:close/>
              </a:path>
              <a:path fill="darkenLess" w="21600" h="21974">
                <a:moveTo>
                  <a:pt x="9877" y="14486"/>
                </a:moveTo>
                <a:lnTo>
                  <a:pt x="11723" y="14486"/>
                </a:lnTo>
                <a:lnTo>
                  <a:pt x="11723" y="18176"/>
                </a:lnTo>
                <a:lnTo>
                  <a:pt x="16109" y="18176"/>
                </a:lnTo>
                <a:lnTo>
                  <a:pt x="16109" y="10987"/>
                </a:lnTo>
                <a:lnTo>
                  <a:pt x="5491" y="10987"/>
                </a:lnTo>
                <a:lnTo>
                  <a:pt x="5491" y="18176"/>
                </a:lnTo>
                <a:lnTo>
                  <a:pt x="9877" y="1817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Recorded Sound" descr=""/>
          <p:cNvPicPr/>
          <p:nvPr/>
        </p:nvPicPr>
        <p:blipFill>
          <a:blip r:embed="rId1"/>
          <a:stretch/>
        </p:blipFill>
        <p:spPr>
          <a:xfrm>
            <a:off x="1116000" y="1628640"/>
            <a:ext cx="592200" cy="592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Users\Jo\AppData\Local\Microsoft\Windows\Temporary Internet Files\Content.IE5\ZZP0HXAT\MC900383200[1].wmf"/>
          <p:cNvPicPr/>
          <p:nvPr/>
        </p:nvPicPr>
        <p:blipFill>
          <a:blip r:embed="rId2"/>
          <a:stretch/>
        </p:blipFill>
        <p:spPr>
          <a:xfrm>
            <a:off x="395280" y="4221000"/>
            <a:ext cx="1704960" cy="2376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ipod-touch-4th-generation-media-player.jpg"/>
          <p:cNvPicPr/>
          <p:nvPr/>
        </p:nvPicPr>
        <p:blipFill>
          <a:blip r:embed="rId3"/>
          <a:stretch/>
        </p:blipFill>
        <p:spPr>
          <a:xfrm>
            <a:off x="3240000" y="4724280"/>
            <a:ext cx="1763640" cy="172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C:\Users\Jo\AppData\Local\Microsoft\Windows\Temporary Internet Files\Content.IE5\ZZP0HXAT\MC900157411[1].wmf"/>
          <p:cNvPicPr/>
          <p:nvPr/>
        </p:nvPicPr>
        <p:blipFill>
          <a:blip r:embed="rId4"/>
          <a:stretch/>
        </p:blipFill>
        <p:spPr>
          <a:xfrm>
            <a:off x="5940360" y="4724280"/>
            <a:ext cx="1555920" cy="1816200"/>
          </a:xfrm>
          <a:prstGeom prst="rect">
            <a:avLst/>
          </a:prstGeom>
          <a:ln w="0">
            <a:noFill/>
          </a:ln>
        </p:spPr>
      </p:pic>
      <p:sp>
        <p:nvSpPr>
          <p:cNvPr id="106" name="Multiply 8"/>
          <p:cNvSpPr/>
          <p:nvPr/>
        </p:nvSpPr>
        <p:spPr>
          <a:xfrm>
            <a:off x="4140360" y="5516640"/>
            <a:ext cx="1368360" cy="1341360"/>
          </a:xfrm>
          <a:custGeom>
            <a:avLst/>
            <a:gdLst>
              <a:gd name="textAreaLeft" fmla="*/ 218160 w 1368360"/>
              <a:gd name="textAreaRight" fmla="*/ 1150200 w 1368360"/>
              <a:gd name="textAreaTop" fmla="*/ 209520 h 1341360"/>
              <a:gd name="textAreaBottom" fmla="*/ 1131840 h 1341360"/>
            </a:gdLst>
            <a:ahLst/>
            <a:rect l="textAreaLeft" t="textAreaTop" r="textAreaRight" b="textAreaBottom"/>
            <a:pathLst>
              <a:path w="1368152" h="1340768">
                <a:moveTo>
                  <a:pt x="218236" y="434633"/>
                </a:moveTo>
                <a:lnTo>
                  <a:pt x="438956" y="209405"/>
                </a:lnTo>
                <a:lnTo>
                  <a:pt x="684076" y="449619"/>
                </a:lnTo>
                <a:lnTo>
                  <a:pt x="929196" y="209405"/>
                </a:lnTo>
                <a:lnTo>
                  <a:pt x="1149916" y="434633"/>
                </a:lnTo>
                <a:lnTo>
                  <a:pt x="909350" y="670384"/>
                </a:lnTo>
                <a:lnTo>
                  <a:pt x="1149916" y="906135"/>
                </a:lnTo>
                <a:lnTo>
                  <a:pt x="929196" y="1131363"/>
                </a:lnTo>
                <a:lnTo>
                  <a:pt x="684076" y="891149"/>
                </a:lnTo>
                <a:lnTo>
                  <a:pt x="438956" y="1131363"/>
                </a:lnTo>
                <a:lnTo>
                  <a:pt x="218236" y="906135"/>
                </a:lnTo>
                <a:lnTo>
                  <a:pt x="458802" y="67038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Multiply 9"/>
          <p:cNvSpPr/>
          <p:nvPr/>
        </p:nvSpPr>
        <p:spPr>
          <a:xfrm>
            <a:off x="6842160" y="4479840"/>
            <a:ext cx="1368360" cy="1339920"/>
          </a:xfrm>
          <a:custGeom>
            <a:avLst/>
            <a:gdLst>
              <a:gd name="textAreaLeft" fmla="*/ 218160 w 1368360"/>
              <a:gd name="textAreaRight" fmla="*/ 1150200 w 1368360"/>
              <a:gd name="textAreaTop" fmla="*/ 209160 h 1339920"/>
              <a:gd name="textAreaBottom" fmla="*/ 1130760 h 1339920"/>
            </a:gdLst>
            <a:ahLst/>
            <a:rect l="textAreaLeft" t="textAreaTop" r="textAreaRight" b="textAreaBottom"/>
            <a:pathLst>
              <a:path w="1368152" h="1340768">
                <a:moveTo>
                  <a:pt x="218236" y="434633"/>
                </a:moveTo>
                <a:lnTo>
                  <a:pt x="438956" y="209405"/>
                </a:lnTo>
                <a:lnTo>
                  <a:pt x="684076" y="449619"/>
                </a:lnTo>
                <a:lnTo>
                  <a:pt x="929196" y="209405"/>
                </a:lnTo>
                <a:lnTo>
                  <a:pt x="1149916" y="434633"/>
                </a:lnTo>
                <a:lnTo>
                  <a:pt x="909350" y="670384"/>
                </a:lnTo>
                <a:lnTo>
                  <a:pt x="1149916" y="906135"/>
                </a:lnTo>
                <a:lnTo>
                  <a:pt x="929196" y="1131363"/>
                </a:lnTo>
                <a:lnTo>
                  <a:pt x="684076" y="891149"/>
                </a:lnTo>
                <a:lnTo>
                  <a:pt x="438956" y="1131363"/>
                </a:lnTo>
                <a:lnTo>
                  <a:pt x="218236" y="906135"/>
                </a:lnTo>
                <a:lnTo>
                  <a:pt x="458802" y="670384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840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2T19:23:51Z</dcterms:created>
  <dc:creator>Jo Rhys-Jones</dc:creator>
  <dc:description/>
  <dc:language>en-US</dc:language>
  <cp:lastModifiedBy>Jo Rhys-Jones</cp:lastModifiedBy>
  <dcterms:modified xsi:type="dcterms:W3CDTF">2011-11-29T17:24:14Z</dcterms:modified>
  <cp:revision>26</cp:revision>
  <dc:subject/>
  <dc:title>Core structures for KS2 French  (based on the Hampshire End-of-Year 6 Transfer Agreement for Languages)</dc:title>
</cp:coreProperties>
</file>